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AB6-C8F1-41DC-B267-88027F9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BC1-F46C-4599-BF59-E7F6022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EA7-0144-4BAE-A223-8179974F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143-F3BD-41BE-9B26-6C4A4038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0B03-6C6A-46BB-BADF-A1638F7B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789A-3B0E-413F-BACA-01215A1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862B-DB43-4A4C-B7AA-2BDFB130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831-4325-4F25-801E-5228DF7E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6DF4-6048-4C6D-90F5-54880C6C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E58-7C54-4EF6-B851-DC74A593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09E5-E1CA-4781-813D-9E96192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6E4-B747-4180-B379-57755EE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029-E2D0-4E1F-8B93-D517418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77B-0621-497B-A94D-DB1F961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9CCA-7BA4-4ACB-9387-9EB860E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6947-4A18-4D03-BBD2-2D56E43B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7FDC-A64A-4F46-8C7F-F9E32454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6D235-0152-4590-AA6D-77F278D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8716E-0DBF-4C8A-8FAB-6890D90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C7CA-2D35-402C-99CA-A610C0B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E6BEF-3C3B-4F47-911A-583216C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0BCBD-9814-4B09-A44C-5DEC7B1A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672-C8D7-4E0D-B94B-630D412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49501-E4B8-4A91-9CD5-DF02711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3162B-06AF-4AA5-A8CD-DFA992A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5EBC-DF76-43AE-8AE6-E3ED885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7CABF-D135-4360-85B4-857A12D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A8CDB-B120-4A69-8D9C-C58B16CA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7962E-9562-4259-9C29-075808AC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A3AD1-38BF-405A-86AB-5F40127E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240F5-3EBE-4043-974D-DE8B331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38D35-C8F8-4C3D-B269-BDE32BE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A4F2B-BDF1-4AF6-8B27-09554C2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B66-5A1F-48CF-B708-CDD4947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F9BD9-9C7A-4837-870C-CFB145F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9C514-1BF1-4B39-B3C9-BB0BCC2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09733-3F54-45CA-B998-B0EB27D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EDDAB-4D1F-4529-9EFB-EBE92CC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706C2-1EBF-4C42-8E8A-1450598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DE1A1-F28E-46E6-B9C7-883F9EC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C0D40-9E60-4BE4-9BE7-B27A2B7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567A8-7C50-43BB-87F7-FEA90489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DCCCE-D2C9-4281-909F-05018864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15E76-32AE-48DC-9CB4-68D29A04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988-89D7-45E4-9C0B-343E5C2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B26B0-A5F6-412F-9AC4-DCC63537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B5373-B122-4565-A101-7CF35A7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D5774-0867-4D95-8AB8-A8964CC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7FA22-2EE5-4BCA-8ECF-B75D2F6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F8026-293F-4502-91DB-9A1A1FD7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E5ED6-F838-4E82-A03A-B702C93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C1A1E-E903-40EB-BBD0-062AB00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0CB87-EBD1-4A27-92E2-C8C7C5B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A7AEA-2778-4CE9-A16C-49B865E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A6EB8-B546-4B67-B1E3-D1CE63BA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1F1-281D-4BB4-9D58-338A374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E0493-B68A-40D4-848B-9645F5D9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95FC-37CE-497C-8787-B75C5AC8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BBBF-B46E-432D-B8B4-6A938EF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A21F-DC51-4CAE-9271-A5AB6F5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97F50-1101-481C-A4DD-B2FABB1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FDD7-193D-4541-BA1F-66F20B5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70E2-0899-4F9C-AABD-1760622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0DCBA-D3BA-4A94-9EB1-812B0A4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105E-187F-485F-AE2A-63EB1C42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CA1E-F279-4951-AC9C-06EF698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B87-25A8-411B-A168-6C70034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7EB1-7A02-4F7A-9DB0-33898C7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B667-095C-4592-B388-8FF70D83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637C-36C6-4A23-ADEF-48276E4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AD870-EE1B-42ED-AE9B-28C819CA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1C40B-1BEC-485A-9FF6-F2FF00D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C3069-EA02-4FFC-BC56-D3766E1A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EBF00-AE77-4488-9AC8-619DD78D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10163-76A5-4602-881E-C5F87A41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031D6-DD1F-4A58-BF94-FA56258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8E503-C669-49B1-977B-CB7251E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258-EF78-4052-9105-61D58DF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F443F-E6C0-4981-A833-B52F579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46A4B-B3A0-4174-A6D9-33D793F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3D139-508E-477D-8C9E-B37EECD8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C8DE1-89F6-4ABF-AF36-1904CEAD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2DDBD-F27C-4FB5-9EAD-486E2AD0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EB57-4B48-4665-B638-DA53DE21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04A5-DEDD-45FD-9BB3-B12E31EB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7305-7D9B-482F-9404-0F84BA9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F55E9-2433-4F39-A913-EB12559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CCBA-5FFA-422A-A83E-D36C4AD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6E5-9CBB-4C4F-BA29-4B7B2E2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31F5D-AE4A-463C-A283-08B0864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89388-25C8-44EA-9077-9C51398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E7A79-BB5C-4D56-8B7A-D16272C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9630-D129-4C61-8DE4-EB9D6C8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323E-3435-4911-A2ED-95ED0FD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51B0-D90F-4BFA-8122-D65C54FC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9D029-210A-4A2F-B058-41A3BBE3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D9A4-8386-4F74-A7C8-7329B254E4CC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6C2-53AD-4A21-9649-D4E760A10035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A500-4357-416A-BF4D-CDFDC156D1E1}" type="slidenum">
              <a:rPr b="1" lang="ko-K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B39-197A-4443-9DCE-EE1A38845675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1E8-4549-4C21-B225-F00BE7B53111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AAE1-A711-4005-8A93-1254B9740452}" type="slidenum">
              <a:rPr b="1" lang="ko-KR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19E-DE66-4C60-AEBA-D18F11F34474}" type="slidenum">
              <a:rPr b="1" lang="ko-K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A29-5ACE-48D0-8E7F-D37071881926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911320" cy="3879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724200" cy="2482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6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학년도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만덕중학교  박지은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부제목 3"/>
          <p:cNvSpPr/>
          <p:nvPr/>
        </p:nvSpPr>
        <p:spPr>
          <a:xfrm>
            <a:off x="108000" y="6094440"/>
            <a:ext cx="223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4</a:t>
            </a:r>
            <a:r>
              <a:rPr b="0" lang="ko-KR" sz="2800" spc="-1" strike="noStrike">
                <a:solidFill>
                  <a:srgbClr val="ffffff"/>
                </a:solidFill>
                <a:latin typeface="Tw Cen MT"/>
              </a:rPr>
              <a:t>과 위치 말하기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7440" cy="14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ebddc3"/>
                </a:solidFill>
                <a:latin typeface="HY강B"/>
                <a:ea typeface="HY강B"/>
              </a:rPr>
              <a:t>위치 묻고 답하기</a:t>
            </a:r>
            <a:endParaRPr b="0" lang="en-US" sz="72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46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2700360" y="549360"/>
          <a:ext cx="3666960" cy="57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366696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2627280" y="692280"/>
          <a:ext cx="3578400" cy="55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692280"/>
                    <a:ext cx="357840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527200" y="620640"/>
          <a:ext cx="380052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620640"/>
                    <a:ext cx="380052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2484360" y="476280"/>
          <a:ext cx="379404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6280"/>
                    <a:ext cx="3794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590920" y="380880"/>
          <a:ext cx="361296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80880"/>
                    <a:ext cx="361296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019160" y="878040"/>
            <a:ext cx="69375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234800" cy="1377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1235160" cy="1378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708360" y="5516640"/>
            <a:ext cx="1692360" cy="898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1235160" cy="1378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209520"/>
            <a:ext cx="446400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759200" y="119700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54040" y="4094280"/>
            <a:ext cx="2470320" cy="1457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79280" y="209520"/>
            <a:ext cx="43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470320" cy="1457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189000"/>
            <a:ext cx="9144000" cy="6589800"/>
            <a:chOff x="0" y="189000"/>
            <a:chExt cx="9144000" cy="658980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374920" y="5483160"/>
              <a:ext cx="884160" cy="1295640"/>
            </a:xfrm>
            <a:custGeom>
              <a:avLst/>
              <a:gdLst/>
              <a:ahLst/>
              <a:rect l="l" t="t" r="r" b="b"/>
              <a:pathLst>
                <a:path w="2457" h="3598">
                  <a:moveTo>
                    <a:pt x="7293" y="15577"/>
                  </a:moveTo>
                  <a:cubicBezTo>
                    <a:pt x="7261" y="15609"/>
                    <a:pt x="7240" y="15607"/>
                    <a:pt x="7218" y="15627"/>
                  </a:cubicBezTo>
                  <a:cubicBezTo>
                    <a:pt x="7205" y="15639"/>
                    <a:pt x="7151" y="15691"/>
                    <a:pt x="7144" y="15701"/>
                  </a:cubicBezTo>
                  <a:cubicBezTo>
                    <a:pt x="7125" y="15727"/>
                    <a:pt x="7108" y="15755"/>
                    <a:pt x="7094" y="15776"/>
                  </a:cubicBezTo>
                  <a:cubicBezTo>
                    <a:pt x="7074" y="15806"/>
                    <a:pt x="7055" y="15815"/>
                    <a:pt x="7045" y="15850"/>
                  </a:cubicBezTo>
                  <a:cubicBezTo>
                    <a:pt x="7024" y="15927"/>
                    <a:pt x="7024" y="16165"/>
                    <a:pt x="7069" y="16222"/>
                  </a:cubicBezTo>
                  <a:cubicBezTo>
                    <a:pt x="7089" y="16247"/>
                    <a:pt x="7126" y="16249"/>
                    <a:pt x="7144" y="16272"/>
                  </a:cubicBezTo>
                  <a:cubicBezTo>
                    <a:pt x="7178" y="16316"/>
                    <a:pt x="7170" y="16297"/>
                    <a:pt x="7218" y="16321"/>
                  </a:cubicBezTo>
                  <a:cubicBezTo>
                    <a:pt x="7235" y="16330"/>
                    <a:pt x="7270" y="16359"/>
                    <a:pt x="7293" y="16371"/>
                  </a:cubicBezTo>
                  <a:cubicBezTo>
                    <a:pt x="7315" y="16383"/>
                    <a:pt x="7360" y="16443"/>
                    <a:pt x="7367" y="16446"/>
                  </a:cubicBezTo>
                  <a:cubicBezTo>
                    <a:pt x="7462" y="16493"/>
                    <a:pt x="7705" y="16446"/>
                    <a:pt x="7813" y="16446"/>
                  </a:cubicBezTo>
                  <a:cubicBezTo>
                    <a:pt x="7819" y="16402"/>
                    <a:pt x="7817" y="16397"/>
                    <a:pt x="7838" y="16371"/>
                  </a:cubicBezTo>
                  <a:cubicBezTo>
                    <a:pt x="7854" y="16351"/>
                    <a:pt x="7870" y="16319"/>
                    <a:pt x="7888" y="16297"/>
                  </a:cubicBezTo>
                  <a:cubicBezTo>
                    <a:pt x="7908" y="16273"/>
                    <a:pt x="7906" y="16255"/>
                    <a:pt x="7938" y="16222"/>
                  </a:cubicBezTo>
                  <a:cubicBezTo>
                    <a:pt x="7954" y="16205"/>
                    <a:pt x="7968" y="16174"/>
                    <a:pt x="7987" y="16148"/>
                  </a:cubicBezTo>
                  <a:cubicBezTo>
                    <a:pt x="8005" y="16124"/>
                    <a:pt x="8043" y="16119"/>
                    <a:pt x="8062" y="16098"/>
                  </a:cubicBezTo>
                  <a:cubicBezTo>
                    <a:pt x="8092" y="16065"/>
                    <a:pt x="8069" y="16011"/>
                    <a:pt x="8086" y="15974"/>
                  </a:cubicBezTo>
                  <a:cubicBezTo>
                    <a:pt x="8106" y="15931"/>
                    <a:pt x="8108" y="15926"/>
                    <a:pt x="8111" y="15875"/>
                  </a:cubicBezTo>
                  <a:cubicBezTo>
                    <a:pt x="8113" y="15832"/>
                    <a:pt x="8104" y="15824"/>
                    <a:pt x="8086" y="15801"/>
                  </a:cubicBezTo>
                  <a:cubicBezTo>
                    <a:pt x="8067" y="15777"/>
                    <a:pt x="8057" y="15772"/>
                    <a:pt x="8037" y="15751"/>
                  </a:cubicBezTo>
                  <a:cubicBezTo>
                    <a:pt x="8013" y="15727"/>
                    <a:pt x="8029" y="15712"/>
                    <a:pt x="8012" y="15677"/>
                  </a:cubicBezTo>
                  <a:cubicBezTo>
                    <a:pt x="8006" y="15664"/>
                    <a:pt x="7974" y="15617"/>
                    <a:pt x="7962" y="15602"/>
                  </a:cubicBezTo>
                  <a:cubicBezTo>
                    <a:pt x="7940" y="15573"/>
                    <a:pt x="7944" y="15546"/>
                    <a:pt x="7913" y="15528"/>
                  </a:cubicBezTo>
                  <a:cubicBezTo>
                    <a:pt x="7813" y="15470"/>
                    <a:pt x="7480" y="15528"/>
                    <a:pt x="7367" y="15528"/>
                  </a:cubicBezTo>
                </a:path>
                <a:path w="2457" h="3598">
                  <a:moveTo>
                    <a:pt x="7441" y="15875"/>
                  </a:moveTo>
                  <a:lnTo>
                    <a:pt x="7441" y="15875"/>
                  </a:lnTo>
                </a:path>
                <a:path w="2457" h="3598">
                  <a:moveTo>
                    <a:pt x="7739" y="15875"/>
                  </a:moveTo>
                  <a:lnTo>
                    <a:pt x="7739" y="15875"/>
                  </a:lnTo>
                </a:path>
                <a:path w="2457" h="3598">
                  <a:moveTo>
                    <a:pt x="7516" y="16148"/>
                  </a:moveTo>
                  <a:cubicBezTo>
                    <a:pt x="7561" y="16148"/>
                    <a:pt x="7574" y="16168"/>
                    <a:pt x="7615" y="16173"/>
                  </a:cubicBezTo>
                  <a:cubicBezTo>
                    <a:pt x="7639" y="16176"/>
                    <a:pt x="7665" y="16173"/>
                    <a:pt x="7689" y="16173"/>
                  </a:cubicBezTo>
                  <a:cubicBezTo>
                    <a:pt x="7702" y="16135"/>
                    <a:pt x="7719" y="16148"/>
                    <a:pt x="7764" y="16148"/>
                  </a:cubicBezTo>
                </a:path>
                <a:path w="2457" h="3598">
                  <a:moveTo>
                    <a:pt x="7441" y="16495"/>
                  </a:moveTo>
                  <a:cubicBezTo>
                    <a:pt x="7441" y="16750"/>
                    <a:pt x="7452" y="17024"/>
                    <a:pt x="7417" y="17264"/>
                  </a:cubicBezTo>
                  <a:cubicBezTo>
                    <a:pt x="7396" y="17406"/>
                    <a:pt x="7417" y="17567"/>
                    <a:pt x="7417" y="17711"/>
                  </a:cubicBezTo>
                  <a:cubicBezTo>
                    <a:pt x="7475" y="17711"/>
                    <a:pt x="7520" y="17728"/>
                    <a:pt x="7565" y="17735"/>
                  </a:cubicBezTo>
                  <a:cubicBezTo>
                    <a:pt x="7791" y="17771"/>
                    <a:pt x="8055" y="17735"/>
                    <a:pt x="8285" y="17735"/>
                  </a:cubicBezTo>
                  <a:cubicBezTo>
                    <a:pt x="8285" y="17637"/>
                    <a:pt x="8277" y="17547"/>
                    <a:pt x="8260" y="17462"/>
                  </a:cubicBezTo>
                  <a:cubicBezTo>
                    <a:pt x="8250" y="17413"/>
                    <a:pt x="8268" y="17405"/>
                    <a:pt x="8235" y="17363"/>
                  </a:cubicBezTo>
                  <a:cubicBezTo>
                    <a:pt x="8214" y="17337"/>
                    <a:pt x="8213" y="17343"/>
                    <a:pt x="8210" y="17289"/>
                  </a:cubicBezTo>
                  <a:cubicBezTo>
                    <a:pt x="8207" y="17246"/>
                    <a:pt x="8192" y="17229"/>
                    <a:pt x="8186" y="17190"/>
                  </a:cubicBezTo>
                  <a:cubicBezTo>
                    <a:pt x="8181" y="17156"/>
                    <a:pt x="8161" y="17092"/>
                    <a:pt x="8161" y="17090"/>
                  </a:cubicBezTo>
                  <a:cubicBezTo>
                    <a:pt x="8153" y="17049"/>
                    <a:pt x="8144" y="17032"/>
                    <a:pt x="8136" y="16991"/>
                  </a:cubicBezTo>
                  <a:cubicBezTo>
                    <a:pt x="8123" y="16925"/>
                    <a:pt x="8155" y="16872"/>
                    <a:pt x="8111" y="16818"/>
                  </a:cubicBezTo>
                  <a:cubicBezTo>
                    <a:pt x="8085" y="16786"/>
                    <a:pt x="8082" y="16747"/>
                    <a:pt x="8062" y="16718"/>
                  </a:cubicBezTo>
                  <a:cubicBezTo>
                    <a:pt x="8043" y="16690"/>
                    <a:pt x="8040" y="16690"/>
                    <a:pt x="8037" y="16644"/>
                  </a:cubicBezTo>
                  <a:cubicBezTo>
                    <a:pt x="8034" y="16590"/>
                    <a:pt x="8020" y="16609"/>
                    <a:pt x="8012" y="16570"/>
                  </a:cubicBezTo>
                  <a:cubicBezTo>
                    <a:pt x="8004" y="16531"/>
                    <a:pt x="8003" y="16505"/>
                    <a:pt x="7987" y="16470"/>
                  </a:cubicBezTo>
                  <a:cubicBezTo>
                    <a:pt x="7971" y="16434"/>
                    <a:pt x="7959" y="16406"/>
                    <a:pt x="7938" y="16371"/>
                  </a:cubicBezTo>
                  <a:cubicBezTo>
                    <a:pt x="7916" y="16327"/>
                    <a:pt x="7913" y="16316"/>
                    <a:pt x="7888" y="16297"/>
                  </a:cubicBezTo>
                </a:path>
                <a:path w="2457" h="3598">
                  <a:moveTo>
                    <a:pt x="7441" y="16545"/>
                  </a:moveTo>
                  <a:cubicBezTo>
                    <a:pt x="7417" y="16545"/>
                    <a:pt x="7408" y="16545"/>
                    <a:pt x="7392" y="16545"/>
                  </a:cubicBezTo>
                  <a:cubicBezTo>
                    <a:pt x="7386" y="16563"/>
                    <a:pt x="7348" y="16605"/>
                    <a:pt x="7317" y="16619"/>
                  </a:cubicBezTo>
                  <a:cubicBezTo>
                    <a:pt x="7309" y="16619"/>
                    <a:pt x="7301" y="16619"/>
                    <a:pt x="7293" y="16619"/>
                  </a:cubicBezTo>
                  <a:cubicBezTo>
                    <a:pt x="7293" y="16662"/>
                    <a:pt x="7303" y="16657"/>
                    <a:pt x="7268" y="16669"/>
                  </a:cubicBezTo>
                  <a:cubicBezTo>
                    <a:pt x="7256" y="16704"/>
                    <a:pt x="7261" y="16694"/>
                    <a:pt x="7218" y="16694"/>
                  </a:cubicBezTo>
                  <a:cubicBezTo>
                    <a:pt x="7203" y="16752"/>
                    <a:pt x="7167" y="16722"/>
                    <a:pt x="7144" y="16768"/>
                  </a:cubicBezTo>
                  <a:cubicBezTo>
                    <a:pt x="7133" y="16790"/>
                    <a:pt x="7125" y="16817"/>
                    <a:pt x="7119" y="16842"/>
                  </a:cubicBezTo>
                  <a:cubicBezTo>
                    <a:pt x="7079" y="16855"/>
                    <a:pt x="7109" y="16854"/>
                    <a:pt x="7069" y="16867"/>
                  </a:cubicBezTo>
                  <a:cubicBezTo>
                    <a:pt x="7059" y="16908"/>
                    <a:pt x="7060" y="16907"/>
                    <a:pt x="7020" y="16917"/>
                  </a:cubicBezTo>
                  <a:cubicBezTo>
                    <a:pt x="7010" y="16957"/>
                    <a:pt x="7011" y="16956"/>
                    <a:pt x="6970" y="16966"/>
                  </a:cubicBezTo>
                  <a:cubicBezTo>
                    <a:pt x="6961" y="17010"/>
                    <a:pt x="6945" y="17043"/>
                    <a:pt x="6945" y="17090"/>
                  </a:cubicBezTo>
                  <a:cubicBezTo>
                    <a:pt x="6903" y="17090"/>
                    <a:pt x="6886" y="17096"/>
                    <a:pt x="6871" y="17140"/>
                  </a:cubicBezTo>
                  <a:cubicBezTo>
                    <a:pt x="6871" y="17148"/>
                    <a:pt x="6871" y="17157"/>
                    <a:pt x="6871" y="17165"/>
                  </a:cubicBezTo>
                  <a:cubicBezTo>
                    <a:pt x="6842" y="17175"/>
                    <a:pt x="6826" y="17199"/>
                    <a:pt x="6821" y="17239"/>
                  </a:cubicBezTo>
                  <a:cubicBezTo>
                    <a:pt x="6816" y="17282"/>
                    <a:pt x="6809" y="17249"/>
                    <a:pt x="6796" y="17289"/>
                  </a:cubicBezTo>
                </a:path>
                <a:path w="2457" h="3598">
                  <a:moveTo>
                    <a:pt x="7987" y="16421"/>
                  </a:moveTo>
                  <a:cubicBezTo>
                    <a:pt x="8042" y="16421"/>
                    <a:pt x="8058" y="16433"/>
                    <a:pt x="8111" y="16446"/>
                  </a:cubicBezTo>
                  <a:cubicBezTo>
                    <a:pt x="8157" y="16458"/>
                    <a:pt x="8191" y="16502"/>
                    <a:pt x="8235" y="16520"/>
                  </a:cubicBezTo>
                  <a:cubicBezTo>
                    <a:pt x="8261" y="16530"/>
                    <a:pt x="8282" y="16538"/>
                    <a:pt x="8310" y="16545"/>
                  </a:cubicBezTo>
                  <a:cubicBezTo>
                    <a:pt x="8321" y="16580"/>
                    <a:pt x="8317" y="16570"/>
                    <a:pt x="8359" y="16570"/>
                  </a:cubicBezTo>
                  <a:cubicBezTo>
                    <a:pt x="8371" y="16604"/>
                    <a:pt x="8397" y="16597"/>
                    <a:pt x="8409" y="16644"/>
                  </a:cubicBezTo>
                  <a:cubicBezTo>
                    <a:pt x="8451" y="16644"/>
                    <a:pt x="8447" y="16634"/>
                    <a:pt x="8458" y="16669"/>
                  </a:cubicBezTo>
                  <a:cubicBezTo>
                    <a:pt x="8505" y="16681"/>
                    <a:pt x="8515" y="16724"/>
                    <a:pt x="8558" y="16743"/>
                  </a:cubicBezTo>
                  <a:cubicBezTo>
                    <a:pt x="8566" y="16743"/>
                    <a:pt x="8574" y="16743"/>
                    <a:pt x="8582" y="16743"/>
                  </a:cubicBezTo>
                  <a:cubicBezTo>
                    <a:pt x="8595" y="16783"/>
                    <a:pt x="8594" y="16753"/>
                    <a:pt x="8607" y="16793"/>
                  </a:cubicBezTo>
                  <a:cubicBezTo>
                    <a:pt x="8647" y="16806"/>
                    <a:pt x="8617" y="16805"/>
                    <a:pt x="8657" y="16818"/>
                  </a:cubicBezTo>
                  <a:cubicBezTo>
                    <a:pt x="8669" y="16852"/>
                    <a:pt x="8665" y="16842"/>
                    <a:pt x="8706" y="16842"/>
                  </a:cubicBezTo>
                  <a:cubicBezTo>
                    <a:pt x="8706" y="16867"/>
                    <a:pt x="8706" y="16892"/>
                    <a:pt x="8706" y="16917"/>
                  </a:cubicBezTo>
                  <a:cubicBezTo>
                    <a:pt x="8746" y="16930"/>
                    <a:pt x="8716" y="16929"/>
                    <a:pt x="8756" y="16942"/>
                  </a:cubicBezTo>
                  <a:cubicBezTo>
                    <a:pt x="8756" y="16984"/>
                    <a:pt x="8746" y="16979"/>
                    <a:pt x="8781" y="16991"/>
                  </a:cubicBezTo>
                  <a:cubicBezTo>
                    <a:pt x="8781" y="17032"/>
                    <a:pt x="8781" y="17074"/>
                    <a:pt x="8781" y="17115"/>
                  </a:cubicBezTo>
                </a:path>
                <a:path w="2457" h="3598">
                  <a:moveTo>
                    <a:pt x="7689" y="17835"/>
                  </a:moveTo>
                  <a:cubicBezTo>
                    <a:pt x="7689" y="18017"/>
                    <a:pt x="7689" y="18198"/>
                    <a:pt x="7689" y="18380"/>
                  </a:cubicBezTo>
                  <a:cubicBezTo>
                    <a:pt x="7653" y="18393"/>
                    <a:pt x="7665" y="18411"/>
                    <a:pt x="7665" y="18455"/>
                  </a:cubicBezTo>
                  <a:cubicBezTo>
                    <a:pt x="7665" y="18521"/>
                    <a:pt x="7665" y="18587"/>
                    <a:pt x="7665" y="18653"/>
                  </a:cubicBezTo>
                  <a:cubicBezTo>
                    <a:pt x="7626" y="18663"/>
                    <a:pt x="7610" y="18678"/>
                    <a:pt x="7565" y="18678"/>
                  </a:cubicBezTo>
                  <a:cubicBezTo>
                    <a:pt x="7491" y="18678"/>
                    <a:pt x="7416" y="18678"/>
                    <a:pt x="7342" y="18678"/>
                  </a:cubicBezTo>
                  <a:cubicBezTo>
                    <a:pt x="7329" y="18716"/>
                    <a:pt x="7313" y="18703"/>
                    <a:pt x="7268" y="18703"/>
                  </a:cubicBezTo>
                  <a:cubicBezTo>
                    <a:pt x="7260" y="18703"/>
                    <a:pt x="7251" y="18703"/>
                    <a:pt x="7243" y="18703"/>
                  </a:cubicBezTo>
                </a:path>
                <a:path w="2457" h="3598">
                  <a:moveTo>
                    <a:pt x="8111" y="17835"/>
                  </a:moveTo>
                  <a:cubicBezTo>
                    <a:pt x="8111" y="18099"/>
                    <a:pt x="8111" y="18364"/>
                    <a:pt x="8111" y="18628"/>
                  </a:cubicBezTo>
                  <a:cubicBezTo>
                    <a:pt x="8149" y="18641"/>
                    <a:pt x="8136" y="18658"/>
                    <a:pt x="8136" y="18703"/>
                  </a:cubicBezTo>
                  <a:cubicBezTo>
                    <a:pt x="8136" y="18711"/>
                    <a:pt x="8136" y="18720"/>
                    <a:pt x="8136" y="18728"/>
                  </a:cubicBezTo>
                  <a:cubicBezTo>
                    <a:pt x="8176" y="18738"/>
                    <a:pt x="8199" y="18765"/>
                    <a:pt x="8235" y="18777"/>
                  </a:cubicBezTo>
                  <a:cubicBezTo>
                    <a:pt x="8265" y="18787"/>
                    <a:pt x="8305" y="18799"/>
                    <a:pt x="8334" y="18802"/>
                  </a:cubicBezTo>
                  <a:cubicBezTo>
                    <a:pt x="8382" y="18807"/>
                    <a:pt x="8394" y="18813"/>
                    <a:pt x="8434" y="18827"/>
                  </a:cubicBezTo>
                  <a:cubicBezTo>
                    <a:pt x="8442" y="18827"/>
                    <a:pt x="8450" y="18827"/>
                    <a:pt x="8458" y="18827"/>
                  </a:cubicBezTo>
                </a:path>
                <a:path w="2457" h="3598">
                  <a:moveTo>
                    <a:pt x="7938" y="15503"/>
                  </a:moveTo>
                  <a:cubicBezTo>
                    <a:pt x="7962" y="15469"/>
                    <a:pt x="7952" y="15433"/>
                    <a:pt x="7987" y="15429"/>
                  </a:cubicBezTo>
                  <a:cubicBezTo>
                    <a:pt x="8028" y="15424"/>
                    <a:pt x="8006" y="15404"/>
                    <a:pt x="8062" y="15404"/>
                  </a:cubicBezTo>
                  <a:cubicBezTo>
                    <a:pt x="8119" y="15404"/>
                    <a:pt x="8140" y="15395"/>
                    <a:pt x="8186" y="15379"/>
                  </a:cubicBezTo>
                  <a:cubicBezTo>
                    <a:pt x="8205" y="15373"/>
                    <a:pt x="8240" y="15379"/>
                    <a:pt x="8260" y="15379"/>
                  </a:cubicBezTo>
                  <a:cubicBezTo>
                    <a:pt x="8260" y="15456"/>
                    <a:pt x="8257" y="15513"/>
                    <a:pt x="8235" y="15577"/>
                  </a:cubicBezTo>
                  <a:cubicBezTo>
                    <a:pt x="8216" y="15634"/>
                    <a:pt x="8188" y="15568"/>
                    <a:pt x="8161" y="15602"/>
                  </a:cubicBezTo>
                  <a:cubicBezTo>
                    <a:pt x="8147" y="15620"/>
                    <a:pt x="8122" y="15640"/>
                    <a:pt x="8086" y="15652"/>
                  </a:cubicBezTo>
                  <a:cubicBezTo>
                    <a:pt x="8062" y="15652"/>
                    <a:pt x="8053" y="15652"/>
                    <a:pt x="8037" y="15652"/>
                  </a:cubicBezTo>
                  <a:cubicBezTo>
                    <a:pt x="8021" y="15630"/>
                    <a:pt x="7991" y="15584"/>
                    <a:pt x="7987" y="15577"/>
                  </a:cubicBezTo>
                  <a:cubicBezTo>
                    <a:pt x="7975" y="15555"/>
                    <a:pt x="7945" y="15542"/>
                    <a:pt x="7938" y="15528"/>
                  </a:cubicBezTo>
                  <a:cubicBezTo>
                    <a:pt x="7926" y="15502"/>
                    <a:pt x="7896" y="15494"/>
                    <a:pt x="7888" y="15478"/>
                  </a:cubicBezTo>
                  <a:cubicBezTo>
                    <a:pt x="7875" y="15453"/>
                    <a:pt x="7865" y="15423"/>
                    <a:pt x="7863" y="15404"/>
                  </a:cubicBezTo>
                  <a:cubicBezTo>
                    <a:pt x="7858" y="15363"/>
                    <a:pt x="7838" y="15385"/>
                    <a:pt x="7838" y="15329"/>
                  </a:cubicBezTo>
                  <a:cubicBezTo>
                    <a:pt x="7838" y="15282"/>
                    <a:pt x="7782" y="15307"/>
                    <a:pt x="7764" y="15280"/>
                  </a:cubicBezTo>
                  <a:cubicBezTo>
                    <a:pt x="7764" y="15252"/>
                    <a:pt x="7762" y="15241"/>
                    <a:pt x="7739" y="15230"/>
                  </a:cubicBezTo>
                  <a:cubicBezTo>
                    <a:pt x="7716" y="15238"/>
                    <a:pt x="7692" y="15281"/>
                    <a:pt x="7689" y="15304"/>
                  </a:cubicBezTo>
                  <a:cubicBezTo>
                    <a:pt x="7683" y="15354"/>
                    <a:pt x="7669" y="15342"/>
                    <a:pt x="7665" y="15379"/>
                  </a:cubicBezTo>
                  <a:cubicBezTo>
                    <a:pt x="7658" y="15435"/>
                    <a:pt x="7665" y="15496"/>
                    <a:pt x="7665" y="15553"/>
                  </a:cubicBezTo>
                  <a:cubicBezTo>
                    <a:pt x="7748" y="15553"/>
                    <a:pt x="7830" y="15553"/>
                    <a:pt x="7913" y="15553"/>
                  </a:cubicBezTo>
                  <a:cubicBezTo>
                    <a:pt x="7869" y="15509"/>
                    <a:pt x="7850" y="15498"/>
                    <a:pt x="7813" y="15453"/>
                  </a:cubicBezTo>
                  <a:cubicBezTo>
                    <a:pt x="7767" y="15396"/>
                    <a:pt x="7798" y="15412"/>
                    <a:pt x="7764" y="15429"/>
                  </a:cubicBezTo>
                  <a:cubicBezTo>
                    <a:pt x="7730" y="15446"/>
                    <a:pt x="7744" y="15463"/>
                    <a:pt x="7714" y="15503"/>
                  </a:cubicBezTo>
                  <a:cubicBezTo>
                    <a:pt x="7797" y="15503"/>
                    <a:pt x="8167" y="15470"/>
                    <a:pt x="8186" y="15528"/>
                  </a:cubicBezTo>
                  <a:cubicBezTo>
                    <a:pt x="8180" y="15553"/>
                    <a:pt x="8147" y="15597"/>
                    <a:pt x="8136" y="15602"/>
                  </a:cubicBezTo>
                  <a:cubicBezTo>
                    <a:pt x="8111" y="15602"/>
                    <a:pt x="8103" y="15602"/>
                    <a:pt x="8111" y="15627"/>
                  </a:cubicBezTo>
                </a:path>
                <a:path w="2457" h="3598">
                  <a:moveTo>
                    <a:pt x="7615" y="16570"/>
                  </a:moveTo>
                  <a:cubicBezTo>
                    <a:pt x="7623" y="16570"/>
                    <a:pt x="7632" y="16570"/>
                    <a:pt x="7640" y="16570"/>
                  </a:cubicBezTo>
                  <a:cubicBezTo>
                    <a:pt x="7659" y="16608"/>
                    <a:pt x="7719" y="16623"/>
                    <a:pt x="7739" y="16669"/>
                  </a:cubicBezTo>
                  <a:cubicBezTo>
                    <a:pt x="7754" y="16702"/>
                    <a:pt x="7744" y="16694"/>
                    <a:pt x="7789" y="16694"/>
                  </a:cubicBezTo>
                </a:path>
                <a:path w="2457" h="3598">
                  <a:moveTo>
                    <a:pt x="7813" y="16520"/>
                  </a:moveTo>
                  <a:cubicBezTo>
                    <a:pt x="7813" y="16575"/>
                    <a:pt x="7794" y="16555"/>
                    <a:pt x="7789" y="16594"/>
                  </a:cubicBezTo>
                  <a:cubicBezTo>
                    <a:pt x="7786" y="16618"/>
                    <a:pt x="7789" y="16645"/>
                    <a:pt x="7789" y="16669"/>
                  </a:cubicBezTo>
                  <a:cubicBezTo>
                    <a:pt x="7789" y="16636"/>
                    <a:pt x="7789" y="16603"/>
                    <a:pt x="7789" y="16570"/>
                  </a:cubicBezTo>
                </a:path>
                <a:path w="2457" h="3598">
                  <a:moveTo>
                    <a:pt x="7739" y="16570"/>
                  </a:moveTo>
                  <a:lnTo>
                    <a:pt x="7739" y="16570"/>
                  </a:lnTo>
                </a:path>
                <a:path w="2457" h="3598">
                  <a:moveTo>
                    <a:pt x="7739" y="16718"/>
                  </a:moveTo>
                  <a:cubicBezTo>
                    <a:pt x="7739" y="16933"/>
                    <a:pt x="7739" y="17148"/>
                    <a:pt x="7739" y="17363"/>
                  </a:cubicBezTo>
                </a:path>
                <a:path w="2457" h="3598">
                  <a:moveTo>
                    <a:pt x="7764" y="16793"/>
                  </a:moveTo>
                  <a:cubicBezTo>
                    <a:pt x="7764" y="16967"/>
                    <a:pt x="7764" y="17140"/>
                    <a:pt x="7764" y="17314"/>
                  </a:cubicBezTo>
                  <a:cubicBezTo>
                    <a:pt x="7729" y="17325"/>
                    <a:pt x="7815" y="17337"/>
                    <a:pt x="7789" y="17363"/>
                  </a:cubicBezTo>
                  <a:cubicBezTo>
                    <a:pt x="7781" y="17363"/>
                    <a:pt x="7772" y="17363"/>
                    <a:pt x="7764" y="17363"/>
                  </a:cubicBezTo>
                </a:path>
                <a:path w="2457" h="3598">
                  <a:moveTo>
                    <a:pt x="6796" y="17289"/>
                  </a:moveTo>
                  <a:cubicBezTo>
                    <a:pt x="6730" y="17289"/>
                    <a:pt x="6664" y="17289"/>
                    <a:pt x="6598" y="17289"/>
                  </a:cubicBezTo>
                </a:path>
                <a:path w="2457" h="3598">
                  <a:moveTo>
                    <a:pt x="8830" y="17165"/>
                  </a:moveTo>
                  <a:cubicBezTo>
                    <a:pt x="8893" y="17165"/>
                    <a:pt x="8927" y="17173"/>
                    <a:pt x="8979" y="17190"/>
                  </a:cubicBezTo>
                  <a:cubicBezTo>
                    <a:pt x="8998" y="17196"/>
                    <a:pt x="9034" y="17190"/>
                    <a:pt x="9054" y="17190"/>
                  </a:cubicBez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2560" y="2189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ほん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2360" y="110952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え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720" y="4724280"/>
              <a:ext cx="215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ひろしくんのう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0360" y="52862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としょか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06920" y="119700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こうえ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43280" y="4292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ゆうびんきょ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3141720"/>
            <a:ext cx="2808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위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26920" y="1773360"/>
          <a:ext cx="302904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30290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321300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아래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52400" y="1773360"/>
          <a:ext cx="295596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773360"/>
                    <a:ext cx="295596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3068640"/>
            <a:ext cx="25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앞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26920" y="1773360"/>
          <a:ext cx="28767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28767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/>
          <p:nvPr/>
        </p:nvSpPr>
        <p:spPr>
          <a:xfrm>
            <a:off x="5003640" y="314172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뒤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71640" y="1773360"/>
          <a:ext cx="294948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494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2852640"/>
            <a:ext cx="4032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9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2924280"/>
            <a:ext cx="3311640" cy="1677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오른쪽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28292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2924280"/>
            <a:ext cx="3311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옆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とな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55640" y="1628640"/>
          <a:ext cx="3083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3083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19:47Z</dcterms:created>
  <dc:creator>Your User Name</dc:creator>
  <dc:description/>
  <dc:language>en-US</dc:language>
  <cp:lastModifiedBy>학교</cp:lastModifiedBy>
  <dcterms:modified xsi:type="dcterms:W3CDTF">2011-07-04T00:22:25Z</dcterms:modified>
  <cp:revision>29</cp:revision>
  <dc:subject/>
  <dc:title>日本の「住」</dc:title>
</cp:coreProperties>
</file>